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4B3CD6-B00D-4943-92FC-49A6B926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90FD88-0A49-4509-AC55-EE284EB65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8A66-F8A4-4BC2-B8D0-B2C2AD32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3EDC-10AE-41F9-983A-585BD580B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03D7-5516-43FE-834C-D13E4F92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91EFC-56E5-452E-89CE-CA0045CD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C2F9D-975D-496C-8E31-FD2390ECD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A7509-5139-4B0A-93C9-82DA6FDBFCD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D4757-1A42-4BD2-875B-4E7B03305C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F403-C007-4F30-BF1D-B55DAEDA38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F8A7E-4008-4B0C-8E83-1B20585904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9B222-8CD6-4A97-B9A6-5666D40B65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5877A-3801-448E-8CF1-5AB51CF222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424B6-7087-4749-BDC7-D1742676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6DD4C-8A4E-4102-8DB4-4064E993B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9DDE6-4D08-4095-AED7-1CC130E87B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6D3346-687F-4B04-A9C8-0B115ECAD89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2E933-0BF5-4AF1-B1CD-B28D3B60B8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D6C4D3-267F-4637-A714-A0F9F46FF07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A3053-E0E0-4D9D-B94A-E4E9B48F2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8AF85F-9628-4534-847A-52E1D25B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70E9A-2A39-4D3E-81C4-9CFCF007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9C0F5-B41B-47DE-88DD-413AAD8E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80B42-B513-4755-9904-1AD600D0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42BE5-5AC3-48BD-87E6-F356D7E1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4F84DA-E639-4229-8376-8514EF6A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BF54F-BDDA-4DB8-9161-D92CDEA9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EB5BD-4010-4D77-B93C-E564616B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3B741-8F4D-4C5D-818A-A90991446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BB47C-B141-4E3E-9DCF-BF7908AE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36E84-CD98-4708-988E-B40FDC63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89936-1BA7-4580-99FC-6244ECEED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C800-08C0-4681-A11A-D621DBA7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1C41D-30C5-48E2-A417-74DA88CB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4B1CB-35BD-439A-B17B-DD0E4A0B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2F05-54ED-436B-9521-C1F4B724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5AC49-2CFD-476D-9B25-A3970BF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8D1B-A9FD-4A56-BA60-AA9842F0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C6C7-84F3-4A49-9037-D2E2D79E4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050-0281-4F8C-AAA0-8F0B2794F5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7B3C-D9B5-406A-B5D1-BF2040E45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95DE7-2FD0-40AE-9097-C97B88943D0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87727-E8C9-422C-9767-78D85819CD82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chool Library System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Provide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adership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hared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quitable acces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veraged economic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nnect students and teachers to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184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186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280" y="2133720"/>
            <a:ext cx="958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Improve Library Resources and Services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A684-B885-46E9-8D1E-5503D4EAA713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Improve Library System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Resources and Service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193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195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0F3ED-CB52-4C59-A6C5-012E4EE02E57}" type="slidenum">
              <a:t>4</a:t>
            </a:fld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3:18Z</dcterms:modified>
  <cp:revision>110</cp:revision>
  <dc:subject/>
  <dc:title>Work Group Question here</dc:title>
</cp:coreProperties>
</file>